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88E-B5FA-4B22-A111-FD70613A6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ink about what you need when you have caused harm to someone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stions can be used whenever harm has happened or people have fallen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hort version can be sued in playgrounds/corridors and classrooms – the longer version you have in your lap may be useful if the situation is more protr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ing harmful behaviour whilst staying true to the values we have been talking about and ensuring that the relationship does not get damaged is a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traditional way to consider wrong doing for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B4C-E617-4864-9C4A-3118DA7D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B86-E5D2-4940-957C-B55792DF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206-1D2F-46FC-B471-91E1D8DC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7B0-8805-47E4-B5CB-9267DC01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83D-CDC0-4664-B5B8-13F3DB67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FF2-6772-4BF4-9E7B-C11C18E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AF3-273C-4A78-ADE1-EE6231C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0BE-4C95-4E13-BB25-A86599EF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0DB-67D3-4CCF-9DF2-5F99839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46-08ED-4628-A762-9E876B2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30E-AC23-47CF-985D-60EFF767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207-400F-4E20-BB36-AFA4A77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0618-BF60-46D7-A72C-768F919E9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elinda@transformingconflict.org" TargetMode="External"/><Relationship Id="rId2" Type="http://schemas.openxmlformats.org/officeDocument/2006/relationships/hyperlink" Target="http://www.transformingconflic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estorativ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765000"/>
            <a:ext cx="168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manage to refrain fr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your body or your tone to show disappro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your own opinion or judgement about what has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you know what has happened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people what they should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unasked for ad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sting people apologise and make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tar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ponse is appropriate to deter and pu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affected or ha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ose involved be supported in finding ways to repair the harm ca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28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’ve been ha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9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 have ha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el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   been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harmed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Magic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you fee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 has been affected by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, and what needs to happen now, so that the harm can be repaire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5872320"/>
            <a:ext cx="31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9480" y="587700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7120" y="5872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the approach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nd 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a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57992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l group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mediation/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85264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872320"/>
            <a:ext cx="42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restorative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03640" y="1989000"/>
            <a:ext cx="3240000" cy="2952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357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4292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824440"/>
            <a:ext cx="553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ircle time; classroom confer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 problem-solving circles; parent circl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conflicts and harmful situations in a way that, at the very least, does not harm relationships, and at best builds and repair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ower those involved in conflict or harmful situations to take ownership of these and find ways forward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 with young people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ing environment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58280" y="4456080"/>
            <a:ext cx="137160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initia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" y="2170080"/>
            <a:ext cx="112104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Order 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557360"/>
            <a:ext cx="1225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Planning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19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ab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563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 Social Behaviou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56880" y="30844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fton Centre for Restorativ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1827360"/>
            <a:ext cx="914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3880" y="2781360"/>
            <a:ext cx="1589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J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10270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y Group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33640" y="1295280"/>
            <a:ext cx="11430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86680" y="990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736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360" y="3200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Improv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05640" y="3276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Action Zo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8273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ing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1880" y="5713560"/>
            <a:ext cx="2232000" cy="11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ing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apted from  a model developed by Sefton Centre for Restorative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7991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ur Dis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6280" y="54849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7135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ren’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86280" y="2739960"/>
            <a:ext cx="30859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26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620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556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608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468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629080" y="228240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6440" y="2282400"/>
            <a:ext cx="800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629080" y="411336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440" y="4113360"/>
            <a:ext cx="8002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6280" y="5027760"/>
            <a:ext cx="34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7680" y="5370480"/>
            <a:ext cx="34272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255320" y="5256360"/>
            <a:ext cx="34308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255320" y="468468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4388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429680" y="4684680"/>
            <a:ext cx="342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360" y="5141880"/>
            <a:ext cx="2286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4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72480" y="136800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905440" y="1371600"/>
            <a:ext cx="61128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33440" y="2362320"/>
            <a:ext cx="41904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712520" y="136800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255320" y="182556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43000" y="2170080"/>
            <a:ext cx="4572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6160" y="2438280"/>
            <a:ext cx="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47242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2760" y="304812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orative Ba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5280" y="1828800"/>
            <a:ext cx="9144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990720"/>
            <a:ext cx="13716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im Inclus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47840" y="1447560"/>
            <a:ext cx="763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29080" y="1523520"/>
            <a:ext cx="6094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77040" y="1294920"/>
            <a:ext cx="53352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29680" y="167616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7068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4240" y="914400"/>
            <a:ext cx="1116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3 Behaviour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14680" y="2438280"/>
            <a:ext cx="30456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27432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484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362320"/>
            <a:ext cx="11412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560" y="2743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dial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9680" y="2209680"/>
            <a:ext cx="761760" cy="9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19840" y="3886200"/>
            <a:ext cx="0" cy="72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77040" y="3886200"/>
            <a:ext cx="91440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1295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705040" y="1447920"/>
            <a:ext cx="152424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067360" y="1447920"/>
            <a:ext cx="13716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57880" y="4800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ed af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76480" y="50292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ing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entre for Rest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tice in Youth Set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 Hi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G7 3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/fax 0118 93315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linda@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21320" y="1600200"/>
            <a:ext cx="229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torative Jus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dialogue between all those affected by the wrongdoing o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those responsible for the harm to become accountable for their actions and responsible for putting right th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hat all those involved or affected are given the opportunity to share their story, their feelings and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everyone affected in finding mutually acceptable ways 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 the harm caused by any behaviour that has a negative impact o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, or at times building, relationships between thos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torative approach is all about relationships – making, maintaining and, when necessary, repair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59" name="_s14341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4342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4343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979640" y="256536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157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268280"/>
            <a:ext cx="1600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value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67" name="_s307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7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95640" y="4724280"/>
            <a:ext cx="496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kill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73" name="_s6149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0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151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80" name="_s819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with 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19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19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dealing with wrongdoing or conflict, is your response informed by relationship values and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young people to give you, individually, their perspective on what has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genuinely curious about their thoughts and feelings at the time of the incident and si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o else may have been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at needs to happen to put matter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ask them what their own personal needs are for closure and rep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1:51:07Z</dcterms:created>
  <dc:creator>NEC Computers International</dc:creator>
  <dc:description/>
  <dc:language>en-US</dc:language>
  <cp:lastModifiedBy>htrilling</cp:lastModifiedBy>
  <dcterms:modified xsi:type="dcterms:W3CDTF">2011-08-16T13:52:23Z</dcterms:modified>
  <cp:revision>3</cp:revision>
  <dc:subject/>
  <dc:title>Introduction to Restorative Approac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6366275</vt:r8>
  </property>
  <property fmtid="{D5CDD505-2E9C-101B-9397-08002B2CF9AE}" pid="3" name="_AuthorEmail">
    <vt:lpwstr>Ben.Robinson@leics.gov.uk</vt:lpwstr>
  </property>
  <property fmtid="{D5CDD505-2E9C-101B-9397-08002B2CF9AE}" pid="4" name="_AuthorEmailDisplayName">
    <vt:lpwstr>Ben J Robinson</vt:lpwstr>
  </property>
  <property fmtid="{D5CDD505-2E9C-101B-9397-08002B2CF9AE}" pid="5" name="_EmailSubject">
    <vt:lpwstr>Restorative Approaches Info</vt:lpwstr>
  </property>
  <property fmtid="{D5CDD505-2E9C-101B-9397-08002B2CF9AE}" pid="6" name="_ReviewingToolsShownOnce">
    <vt:lpwstr/>
  </property>
</Properties>
</file>