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AB33D-238B-4656-8B5F-3CC269133C9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think about what you need when you have caused harm to someone 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questions can be used whenever harm has happened or people have fallen 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hort version can be sued in playgrounds/corridors and classrooms – the longer version you have in your lap may be useful if the situation is more protrac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ressing harmful behaviour whilst staying true to the values we have been talking about and ensuring that the relationship does not get damaged is a challen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traditional way to consider wrong doing for exampl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the values and skills that need to be underpinning restorative practice and so first and foremost they need to be the values and skills of a restorative practition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the values and skills that need to be underpinning restorative practice and so first and foremost they need to be the values and skills of a restorative practition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the values and skills that need to be underpinning restorative practice and so first and foremost they need to be the values and skills of a restorative practition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the values and skills that need to be underpinning restorative practice and so first and foremost they need to be the values and skills of a restorative practition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A540-0595-42FD-923E-4A10FA401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DD78-C976-497D-B297-F262C390D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9052-0E87-45CA-89AA-367EE36ED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E2B8-4C01-4945-B5D0-CD6CFC0A5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5D13-35B6-4F48-AD94-DCEF4C90C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0B1B-D17E-44B3-8491-98807A2F2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1B6B-34FC-404E-A096-8C9ECB641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340A-5E25-4339-B20A-29C457C89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2575-D406-4567-9B6E-05843D950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9349-9B62-4804-B4C4-D09FD69C6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E805-1963-4E10-B68B-78562C243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6765-AB75-4C1A-9365-405A7F4C9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27B19-13E3-4049-9A17-DD3E4DFC85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mailto:Belinda@transformingconflict.org" TargetMode="External"/><Relationship Id="rId2" Type="http://schemas.openxmlformats.org/officeDocument/2006/relationships/hyperlink" Target="http://www.transformingconflict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3141360"/>
            <a:ext cx="777384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tion to Restorative Approach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51280" y="765000"/>
            <a:ext cx="168444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 you manage to refrain from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your body or your tone to show disapprova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ing your own opinion or judgement about what has happen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king sid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ing you know what has happened and 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lling people what they should d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fering unasked for advi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isting people apologise and make u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raditional Approa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’s happen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started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response is appropriate to deter and punis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Restorative Approa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’s happen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has been affected or harm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can those involved be supported in finding ways to repair the harm caused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23640" y="0"/>
            <a:ext cx="828036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do I need when I’ve been harm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apolog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empathetic liste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ends m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other person to understand what has upset 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be resp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be allowed to have emo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and positive reinforc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ssurance it won’t happen ag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raw a line underneath 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250920" y="0"/>
            <a:ext cx="9936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do I need when I have harm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else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apolog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one to talk 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 to put things 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make it up to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hance to explain to other person and mysel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feel better about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about myse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be forgi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reassure them/myself it won’t happen ag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get back on friendly te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0" y="0"/>
            <a:ext cx="40384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do I need when I’ve    been harm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polog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empathetic liste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ends m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ther person to understand what has upset 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resp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allowed to have emo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and positive reinforc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ssurance it won’t happen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draw a line underneath 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16000" y="0"/>
            <a:ext cx="44276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do I need when I’ve harmed someone el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apolog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one to talk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 to put things r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make it up to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hance to explain to other person and mysel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feel better about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about my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forgi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reassure them/myself it won’t happen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get back on friendly te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ive Magic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10920" y="1599840"/>
            <a:ext cx="806436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happen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were you think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were you feel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else has been affected by thi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 you need, and what needs to happen now, so that the harm can be repaired 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203640" y="1989000"/>
            <a:ext cx="3240000" cy="259236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284720" y="3284640"/>
            <a:ext cx="503280" cy="43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197680" y="5872320"/>
            <a:ext cx="312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Restorative Mind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203640" y="1989000"/>
            <a:ext cx="3240000" cy="259236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708360" y="3284640"/>
            <a:ext cx="503280" cy="43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716360" y="3284640"/>
            <a:ext cx="503280" cy="43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559480" y="5877000"/>
            <a:ext cx="2724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Restorative C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203640" y="1989000"/>
            <a:ext cx="3240000" cy="259236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84720" y="2997360"/>
            <a:ext cx="503280" cy="43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35280" y="3716280"/>
            <a:ext cx="503280" cy="432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88000" y="3716280"/>
            <a:ext cx="503280" cy="432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487120" y="5872320"/>
            <a:ext cx="162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ere does the approach come fro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ada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 and U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80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Zealan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80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strali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90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K agai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d 1990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203640" y="1989000"/>
            <a:ext cx="3240000" cy="259236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0" y="3068640"/>
            <a:ext cx="503280" cy="43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635280" y="3068640"/>
            <a:ext cx="503280" cy="43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35280" y="3789360"/>
            <a:ext cx="503280" cy="43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3789360"/>
            <a:ext cx="503280" cy="43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851280" y="5799240"/>
            <a:ext cx="448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formal group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mediation/con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203640" y="1989000"/>
            <a:ext cx="3240000" cy="259236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716360" y="3284640"/>
            <a:ext cx="503280" cy="43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708360" y="3284640"/>
            <a:ext cx="503280" cy="43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780000" y="3860640"/>
            <a:ext cx="502920" cy="432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500720" y="3860640"/>
            <a:ext cx="502920" cy="432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211640" y="2852640"/>
            <a:ext cx="503280" cy="432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76720" y="5872320"/>
            <a:ext cx="423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l restorative con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3203640" y="1989000"/>
            <a:ext cx="3240000" cy="29527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932360" y="3284640"/>
            <a:ext cx="503280" cy="43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635280" y="3357720"/>
            <a:ext cx="503280" cy="43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635280" y="4005360"/>
            <a:ext cx="503280" cy="43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932360" y="4005360"/>
            <a:ext cx="503280" cy="43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84720" y="2997360"/>
            <a:ext cx="503280" cy="43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284720" y="4292640"/>
            <a:ext cx="503280" cy="43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851280" y="5824440"/>
            <a:ext cx="5537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ircl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– Circle time; classroom conference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ff problem-solving circles; parent circles e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restorative challe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address conflicts and harmful situations in a way that, at the very least, does not harm relationships, and at best builds and repairs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empower those involved in conflict or harmful situations to take ownership of these and find ways forward for themsel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opportunities do you have for making your work with young people more restorati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opportunities do you have for making your working environment more restorati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7658280" y="4456080"/>
            <a:ext cx="1371600" cy="84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cal initiativ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36440" y="2170080"/>
            <a:ext cx="1121040" cy="3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ral Order Pan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36440" y="1557360"/>
            <a:ext cx="122580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l Planning Meet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4341960"/>
            <a:ext cx="13716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ceptable Behavi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tr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5256360"/>
            <a:ext cx="13716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ti Social Behaviour Or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3656880" y="3084480"/>
            <a:ext cx="20574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fton Centre for Restorative Prac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515280" y="1827360"/>
            <a:ext cx="914400" cy="34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h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172200" y="4799160"/>
            <a:ext cx="11430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tner Agenc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53880" y="2781360"/>
            <a:ext cx="1589400" cy="34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J Confer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71680" y="1027080"/>
            <a:ext cx="13716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mily Group Confer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933640" y="1295280"/>
            <a:ext cx="1143000" cy="34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IS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286680" y="990720"/>
            <a:ext cx="13716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cond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67360" y="1066680"/>
            <a:ext cx="13716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er Me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210360" y="3200400"/>
            <a:ext cx="13716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haviour Improvement Program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505640" y="3276720"/>
            <a:ext cx="13716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ducation Action Zone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886200" y="1827360"/>
            <a:ext cx="13716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renting 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01880" y="5713560"/>
            <a:ext cx="2232000" cy="114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ousing Organis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dapted from  a model developed by Sefton Centre for Restorative Practic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200400" y="4799160"/>
            <a:ext cx="13716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ighbour Disp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086280" y="5484960"/>
            <a:ext cx="13716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munity Confer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172200" y="5713560"/>
            <a:ext cx="13716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ildren’s F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086280" y="2739960"/>
            <a:ext cx="3085920" cy="1600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362640" y="1600200"/>
            <a:ext cx="1143000" cy="8002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62040" y="1600200"/>
            <a:ext cx="1143000" cy="8002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828800" y="1825560"/>
            <a:ext cx="685800" cy="34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486080" y="4570560"/>
            <a:ext cx="1600200" cy="9144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714680" y="4799160"/>
            <a:ext cx="11430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munity Safe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943600" y="4570560"/>
            <a:ext cx="1600200" cy="9144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 flipV="1">
            <a:off x="2629080" y="2282400"/>
            <a:ext cx="914400" cy="685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5716440" y="2282400"/>
            <a:ext cx="800280" cy="685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2629080" y="4113360"/>
            <a:ext cx="91440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716440" y="4113360"/>
            <a:ext cx="80028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086280" y="5027760"/>
            <a:ext cx="34272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57680" y="5370480"/>
            <a:ext cx="342720" cy="2286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286000" y="5484960"/>
            <a:ext cx="0" cy="2286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1255320" y="5256360"/>
            <a:ext cx="343080" cy="1141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 flipV="1">
            <a:off x="1255320" y="4684680"/>
            <a:ext cx="343080" cy="1144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743880" y="5484960"/>
            <a:ext cx="0" cy="2286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7429680" y="4684680"/>
            <a:ext cx="342720" cy="1144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542360" y="5141880"/>
            <a:ext cx="228600" cy="1144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5257440" y="2055960"/>
            <a:ext cx="114300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2742840" y="2055960"/>
            <a:ext cx="114300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6972480" y="1368000"/>
            <a:ext cx="0" cy="2286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 flipV="1">
            <a:off x="5905440" y="1371600"/>
            <a:ext cx="611280" cy="3412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1333440" y="2362320"/>
            <a:ext cx="419040" cy="3045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 flipV="1">
            <a:off x="1712520" y="1368000"/>
            <a:ext cx="228600" cy="2286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 flipV="1">
            <a:off x="1255320" y="1825560"/>
            <a:ext cx="343080" cy="1144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1143000" y="2170080"/>
            <a:ext cx="457200" cy="1144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896160" y="2438280"/>
            <a:ext cx="0" cy="8017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210360" y="4724280"/>
            <a:ext cx="11430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tner Agenc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3542760" y="3048120"/>
            <a:ext cx="20574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torative Ba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15280" y="1828800"/>
            <a:ext cx="914400" cy="34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h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943280" y="990720"/>
            <a:ext cx="1371600" cy="34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ictim Inclusion 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2247840" y="1447560"/>
            <a:ext cx="76320" cy="1522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629080" y="1523520"/>
            <a:ext cx="609480" cy="2286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7277040" y="1294920"/>
            <a:ext cx="533520" cy="3812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7429680" y="1676160"/>
            <a:ext cx="609480" cy="1522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870680" y="1031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734240" y="914400"/>
            <a:ext cx="111600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S3 Behaviour and Sup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i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1714680" y="2438280"/>
            <a:ext cx="304560" cy="6098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943280" y="2743200"/>
            <a:ext cx="99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104840" y="2971800"/>
            <a:ext cx="1371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munity Sent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362320" y="2362320"/>
            <a:ext cx="114120" cy="3808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095560" y="2743200"/>
            <a:ext cx="129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ustodial Sent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429680" y="2209680"/>
            <a:ext cx="761760" cy="9907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819840" y="3886200"/>
            <a:ext cx="0" cy="7254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7277040" y="3886200"/>
            <a:ext cx="914400" cy="8017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24360" y="129528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eal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2705040" y="1447920"/>
            <a:ext cx="1524240" cy="4572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5067360" y="1447920"/>
            <a:ext cx="1371600" cy="3808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457880" y="4800600"/>
            <a:ext cx="13716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oked after Childr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5676480" y="5029200"/>
            <a:ext cx="30492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ransforming Confli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ational Centre for Restor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Justice in Youth Setting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ortimer Hill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orti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e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G7 3P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el/fax 0118 93315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Belinda@transformingconflic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transformingconflic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>
            <a:off x="5521320" y="1600200"/>
            <a:ext cx="229248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Restorative Justi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mmitment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ilitating dialogue between all those affected by the wrongdoing or confli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couraging those responsible for the harm to become accountable for their actions and responsible for putting right the wr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suring that all those involved or affected are given the opportunity to share their story, their feelings and their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olving everyone affected in finding mutually acceptable ways forwar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airing the harm caused by any behaviour that has a negative impact on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airing, or at times building, relationships between those aff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restorative approach is all about relationships – making, maintaining and, when necessary, repairing relationsh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476280"/>
            <a:ext cx="2674800" cy="29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752040" y="464760"/>
            <a:ext cx="7846200" cy="6003720"/>
            <a:chOff x="752040" y="464760"/>
            <a:chExt cx="7846200" cy="6003720"/>
          </a:xfrm>
        </p:grpSpPr>
        <p:sp>
          <p:nvSpPr>
            <p:cNvPr id="59" name="_s14341"/>
            <p:cNvSpPr/>
            <p:nvPr/>
          </p:nvSpPr>
          <p:spPr>
            <a:xfrm flipV="1">
              <a:off x="3366000" y="464400"/>
              <a:ext cx="2617920" cy="2008800"/>
            </a:xfrm>
            <a:custGeom>
              <a:avLst/>
              <a:gdLst>
                <a:gd name="textAreaLeft" fmla="*/ 939240 w 2617920"/>
                <a:gd name="textAreaRight" fmla="*/ 1678680 w 2617920"/>
                <a:gd name="textAreaTop" fmla="*/ 720720 h 2008800"/>
                <a:gd name="textAreaBottom" fmla="*/ 1288080 h 200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fff8d9"/>
            </a:solidFill>
            <a:ln w="4680">
              <a:solidFill>
                <a:srgbClr val="655f3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15920" rIns="115920" tIns="57960" bIns="5796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_s14342"/>
            <p:cNvSpPr/>
            <p:nvPr/>
          </p:nvSpPr>
          <p:spPr>
            <a:xfrm flipV="1">
              <a:off x="2060280" y="2464920"/>
              <a:ext cx="5229360" cy="2001240"/>
            </a:xfrm>
            <a:custGeom>
              <a:avLst/>
              <a:gdLst>
                <a:gd name="textAreaLeft" fmla="*/ 1149840 w 5229360"/>
                <a:gd name="textAreaRight" fmla="*/ 4079520 w 5229360"/>
                <a:gd name="textAreaTop" fmla="*/ 439920 h 2001240"/>
                <a:gd name="textAreaBottom" fmla="*/ 1561320 h 200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ef5c6"/>
            </a:solidFill>
            <a:ln w="4680">
              <a:solidFill>
                <a:srgbClr val="655f3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15920" rIns="115920" tIns="57960" bIns="5796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rebuchet MS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_s14343"/>
            <p:cNvSpPr/>
            <p:nvPr/>
          </p:nvSpPr>
          <p:spPr>
            <a:xfrm flipV="1">
              <a:off x="752040" y="4466520"/>
              <a:ext cx="7846200" cy="2001240"/>
            </a:xfrm>
            <a:custGeom>
              <a:avLst/>
              <a:gdLst>
                <a:gd name="textAreaLeft" fmla="*/ 1362240 w 7846200"/>
                <a:gd name="textAreaRight" fmla="*/ 6483960 w 7846200"/>
                <a:gd name="textAreaTop" fmla="*/ 347400 h 2001240"/>
                <a:gd name="textAreaBottom" fmla="*/ 1653840 h 200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fef1b2"/>
            </a:solidFill>
            <a:ln w="4680">
              <a:solidFill>
                <a:srgbClr val="655f3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15920" rIns="115920" tIns="57960" bIns="5796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rebuchet MS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1979640" y="2565360"/>
            <a:ext cx="511344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Skil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835280" y="5157720"/>
            <a:ext cx="53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Val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851280" y="1268280"/>
            <a:ext cx="16002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ot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476280"/>
            <a:ext cx="2674800" cy="29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The values that underpin a commitment to building, maintaining  &amp; repairing relationsh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752040" y="464760"/>
            <a:ext cx="7846200" cy="6003720"/>
            <a:chOff x="752040" y="464760"/>
            <a:chExt cx="7846200" cy="6003720"/>
          </a:xfrm>
        </p:grpSpPr>
        <p:sp>
          <p:nvSpPr>
            <p:cNvPr id="67" name="_s3077"/>
            <p:cNvSpPr/>
            <p:nvPr/>
          </p:nvSpPr>
          <p:spPr>
            <a:xfrm flipV="1">
              <a:off x="3366000" y="464400"/>
              <a:ext cx="2617920" cy="2008800"/>
            </a:xfrm>
            <a:custGeom>
              <a:avLst/>
              <a:gdLst>
                <a:gd name="textAreaLeft" fmla="*/ 939240 w 2617920"/>
                <a:gd name="textAreaRight" fmla="*/ 1678680 w 2617920"/>
                <a:gd name="textAreaTop" fmla="*/ 720720 h 2008800"/>
                <a:gd name="textAreaBottom" fmla="*/ 1288080 h 200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fff8d9"/>
            </a:solidFill>
            <a:ln w="4680">
              <a:solidFill>
                <a:srgbClr val="655f3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15920" rIns="115920" tIns="57960" bIns="5796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_s3078"/>
            <p:cNvSpPr/>
            <p:nvPr/>
          </p:nvSpPr>
          <p:spPr>
            <a:xfrm flipV="1">
              <a:off x="2060280" y="2464920"/>
              <a:ext cx="5229360" cy="2001240"/>
            </a:xfrm>
            <a:custGeom>
              <a:avLst/>
              <a:gdLst>
                <a:gd name="textAreaLeft" fmla="*/ 1149840 w 5229360"/>
                <a:gd name="textAreaRight" fmla="*/ 4079520 w 5229360"/>
                <a:gd name="textAreaTop" fmla="*/ 439920 h 2001240"/>
                <a:gd name="textAreaBottom" fmla="*/ 1561320 h 200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ef5c6"/>
            </a:solidFill>
            <a:ln w="4680">
              <a:solidFill>
                <a:srgbClr val="655f3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15920" rIns="115920" tIns="57960" bIns="5796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rebuchet MS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_s3079"/>
            <p:cNvSpPr/>
            <p:nvPr/>
          </p:nvSpPr>
          <p:spPr>
            <a:xfrm flipV="1">
              <a:off x="752040" y="4466520"/>
              <a:ext cx="7846200" cy="2001240"/>
            </a:xfrm>
            <a:custGeom>
              <a:avLst/>
              <a:gdLst>
                <a:gd name="textAreaLeft" fmla="*/ 1362240 w 7846200"/>
                <a:gd name="textAreaRight" fmla="*/ 6483960 w 7846200"/>
                <a:gd name="textAreaTop" fmla="*/ 347400 h 2001240"/>
                <a:gd name="textAreaBottom" fmla="*/ 1653840 h 200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fef1b2"/>
            </a:solidFill>
            <a:ln w="4680">
              <a:solidFill>
                <a:srgbClr val="655f3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15920" rIns="115920" tIns="57960" bIns="5796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rebuchet MS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2195640" y="4724280"/>
            <a:ext cx="49687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rebuchet MS"/>
              </a:rPr>
              <a:t>Mutual respect, empowerment, collaboration, valuing others, integrity, honesty, openness, trust, toler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476280"/>
            <a:ext cx="2674800" cy="29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The skills that underpin a commitment to building, maintaining  &amp; repairing relationsh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752040" y="464760"/>
            <a:ext cx="7846200" cy="6003720"/>
            <a:chOff x="752040" y="464760"/>
            <a:chExt cx="7846200" cy="6003720"/>
          </a:xfrm>
        </p:grpSpPr>
        <p:sp>
          <p:nvSpPr>
            <p:cNvPr id="73" name="_s6149"/>
            <p:cNvSpPr/>
            <p:nvPr/>
          </p:nvSpPr>
          <p:spPr>
            <a:xfrm flipV="1">
              <a:off x="3366000" y="464400"/>
              <a:ext cx="2617920" cy="2008800"/>
            </a:xfrm>
            <a:custGeom>
              <a:avLst/>
              <a:gdLst>
                <a:gd name="textAreaLeft" fmla="*/ 939240 w 2617920"/>
                <a:gd name="textAreaRight" fmla="*/ 1678680 w 2617920"/>
                <a:gd name="textAreaTop" fmla="*/ 720720 h 2008800"/>
                <a:gd name="textAreaBottom" fmla="*/ 1288080 h 200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fff8d9"/>
            </a:solidFill>
            <a:ln w="4680">
              <a:solidFill>
                <a:srgbClr val="655f3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15920" rIns="115920" tIns="57960" bIns="5796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_s6150"/>
            <p:cNvSpPr/>
            <p:nvPr/>
          </p:nvSpPr>
          <p:spPr>
            <a:xfrm flipV="1">
              <a:off x="2060280" y="2464920"/>
              <a:ext cx="5229360" cy="2001240"/>
            </a:xfrm>
            <a:custGeom>
              <a:avLst/>
              <a:gdLst>
                <a:gd name="textAreaLeft" fmla="*/ 1149840 w 5229360"/>
                <a:gd name="textAreaRight" fmla="*/ 4079520 w 5229360"/>
                <a:gd name="textAreaTop" fmla="*/ 439920 h 2001240"/>
                <a:gd name="textAreaBottom" fmla="*/ 1561320 h 200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ef5c6"/>
            </a:solidFill>
            <a:ln w="4680">
              <a:solidFill>
                <a:srgbClr val="655f3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15920" rIns="115920" tIns="57960" bIns="5796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rebuchet MS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_s6151"/>
            <p:cNvSpPr/>
            <p:nvPr/>
          </p:nvSpPr>
          <p:spPr>
            <a:xfrm flipV="1">
              <a:off x="752040" y="4466520"/>
              <a:ext cx="7846200" cy="2001240"/>
            </a:xfrm>
            <a:custGeom>
              <a:avLst/>
              <a:gdLst>
                <a:gd name="textAreaLeft" fmla="*/ 1362240 w 7846200"/>
                <a:gd name="textAreaRight" fmla="*/ 6483960 w 7846200"/>
                <a:gd name="textAreaTop" fmla="*/ 347400 h 2001240"/>
                <a:gd name="textAreaBottom" fmla="*/ 1653840 h 200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fef1b2"/>
            </a:solidFill>
            <a:ln w="4680">
              <a:solidFill>
                <a:srgbClr val="655f3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15920" rIns="115920" tIns="57960" bIns="5796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rebuchet MS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411280" y="2565360"/>
            <a:ext cx="468180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3300"/>
                </a:solidFill>
                <a:latin typeface="Trebuchet MS"/>
              </a:rPr>
              <a:t>Emotional articulacy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3300"/>
                </a:solidFill>
                <a:latin typeface="Trebuchet MS"/>
              </a:rPr>
              <a:t>empathy,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3300"/>
                </a:solidFill>
                <a:latin typeface="Trebuchet MS"/>
              </a:rPr>
              <a:t>open-mindedness,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3300"/>
                </a:solidFill>
                <a:latin typeface="Trebuchet MS"/>
              </a:rPr>
              <a:t>active non-judgemental listening, conflict management skill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195640" y="4724280"/>
            <a:ext cx="4968720" cy="14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rebuchet MS"/>
              </a:rPr>
              <a:t>Mutual respect, empowerment, collaboration, valuing others, integrity, honesty, openness, trust, toleranc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476280"/>
            <a:ext cx="2674800" cy="29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52040" y="464760"/>
            <a:ext cx="7846200" cy="6003720"/>
            <a:chOff x="752040" y="464760"/>
            <a:chExt cx="7846200" cy="6003720"/>
          </a:xfrm>
        </p:grpSpPr>
        <p:sp>
          <p:nvSpPr>
            <p:cNvPr id="80" name="_s8197"/>
            <p:cNvSpPr/>
            <p:nvPr/>
          </p:nvSpPr>
          <p:spPr>
            <a:xfrm flipV="1">
              <a:off x="3366000" y="464400"/>
              <a:ext cx="2617920" cy="2008800"/>
            </a:xfrm>
            <a:custGeom>
              <a:avLst/>
              <a:gdLst>
                <a:gd name="textAreaLeft" fmla="*/ 939240 w 2617920"/>
                <a:gd name="textAreaRight" fmla="*/ 1678680 w 2617920"/>
                <a:gd name="textAreaTop" fmla="*/ 720720 h 2008800"/>
                <a:gd name="textAreaBottom" fmla="*/ 1288080 h 200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fff8d9"/>
            </a:solidFill>
            <a:ln w="4680">
              <a:solidFill>
                <a:srgbClr val="655f3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15920" rIns="115920" tIns="57960" bIns="5796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Arial"/>
                </a:rPr>
                <a:t>Interac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Arial"/>
                </a:rPr>
                <a:t>with oth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_s8198"/>
            <p:cNvSpPr/>
            <p:nvPr/>
          </p:nvSpPr>
          <p:spPr>
            <a:xfrm flipV="1">
              <a:off x="2060280" y="2464920"/>
              <a:ext cx="5229360" cy="2001240"/>
            </a:xfrm>
            <a:custGeom>
              <a:avLst/>
              <a:gdLst>
                <a:gd name="textAreaLeft" fmla="*/ 1149840 w 5229360"/>
                <a:gd name="textAreaRight" fmla="*/ 4079520 w 5229360"/>
                <a:gd name="textAreaTop" fmla="*/ 439920 h 2001240"/>
                <a:gd name="textAreaBottom" fmla="*/ 1561320 h 200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ef5c6"/>
            </a:solidFill>
            <a:ln w="4680">
              <a:solidFill>
                <a:srgbClr val="655f3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15920" rIns="115920" tIns="57960" bIns="5796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rebuchet MS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_s8199"/>
            <p:cNvSpPr/>
            <p:nvPr/>
          </p:nvSpPr>
          <p:spPr>
            <a:xfrm flipV="1">
              <a:off x="752040" y="4466520"/>
              <a:ext cx="7846200" cy="2001240"/>
            </a:xfrm>
            <a:custGeom>
              <a:avLst/>
              <a:gdLst>
                <a:gd name="textAreaLeft" fmla="*/ 1362240 w 7846200"/>
                <a:gd name="textAreaRight" fmla="*/ 6483960 w 7846200"/>
                <a:gd name="textAreaTop" fmla="*/ 347400 h 2001240"/>
                <a:gd name="textAreaBottom" fmla="*/ 1653840 h 200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fef1b2"/>
            </a:solidFill>
            <a:ln w="4680">
              <a:solidFill>
                <a:srgbClr val="655f3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15920" rIns="115920" tIns="57960" bIns="5796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rebuchet MS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2411280" y="2565360"/>
            <a:ext cx="468180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rebuchet MS"/>
              </a:rPr>
              <a:t>Emotional articulacy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rebuchet MS"/>
              </a:rPr>
              <a:t>empathy,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rebuchet MS"/>
              </a:rPr>
              <a:t>open-mindedness,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rebuchet MS"/>
              </a:rPr>
              <a:t>active non-judgemental listening, conflict management skill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95640" y="4724280"/>
            <a:ext cx="4968720" cy="14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rebuchet MS"/>
              </a:rPr>
              <a:t>Mutual respect, empowerment, collaboration, valuing others, integrity, honesty, openness, trust, toleranc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en dealing with wrongdoing or conflict, is your response informed by relationship values and skill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you invite young people to give you, individually, their perspective on what has happen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you genuinely curious about their thoughts and feelings at the time of the incident and sin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you invite them to consider who else may have been affect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you invite them to consider what needs to happen to put matters righ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you ask them what their own personal needs are for closure and repai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8T21:51:07Z</dcterms:created>
  <dc:creator>NEC Computers International</dc:creator>
  <dc:description/>
  <dc:language>en-US</dc:language>
  <cp:lastModifiedBy>htrilling</cp:lastModifiedBy>
  <dcterms:modified xsi:type="dcterms:W3CDTF">2011-08-16T13:52:23Z</dcterms:modified>
  <cp:revision>3</cp:revision>
  <dc:subject/>
  <dc:title>Introduction to Restorative Approach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036366275</vt:r8>
  </property>
  <property fmtid="{D5CDD505-2E9C-101B-9397-08002B2CF9AE}" pid="3" name="_AuthorEmail">
    <vt:lpwstr>Ben.Robinson@leics.gov.uk</vt:lpwstr>
  </property>
  <property fmtid="{D5CDD505-2E9C-101B-9397-08002B2CF9AE}" pid="4" name="_AuthorEmailDisplayName">
    <vt:lpwstr>Ben J Robinson</vt:lpwstr>
  </property>
  <property fmtid="{D5CDD505-2E9C-101B-9397-08002B2CF9AE}" pid="5" name="_EmailSubject">
    <vt:lpwstr>Restorative Approaches Info</vt:lpwstr>
  </property>
  <property fmtid="{D5CDD505-2E9C-101B-9397-08002B2CF9AE}" pid="6" name="_ReviewingToolsShownOnce">
    <vt:lpwstr/>
  </property>
</Properties>
</file>